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B7F9-AAF5-4E62-A7BC-949B3CEB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74F8-F279-4CCD-A51A-5D4BA192CB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BD162-8B2A-4888-8596-0A260EB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CF51-2109-466F-8B6B-C4CECB1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518F-3B5E-4F23-A3DA-109BA341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3321E-1377-4256-828C-9A323F3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A914-5195-458C-A163-3895BC7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81FA-E914-4914-9622-C243371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B563-4E9D-4B7F-A813-3B71ADF1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874C-2A76-4623-9747-8DC0BA59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3C29-E3D9-4861-84F3-891D3694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147B8-7191-4D0A-8FEA-191A5D4B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8B68-5FAC-4F4B-8AD4-4FEA15E929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74528-78E6-4259-910C-DEC0236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9CAC4-57EA-40DD-AA7C-FCF46AF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774C7-017B-450B-A857-2F1F94B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C747C-84D6-4434-BF85-83F5761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7CBF-D9FC-4C96-BAE4-C921B12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C0A4C-52D6-4BB5-AC10-2116B86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87CD0-B815-4C74-83BF-5B811EA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AC57B-57E3-4EB3-A254-E1354C5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5D61-4B58-433F-A2DD-06D7764B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24E2-85EE-4D8C-A043-82CB1664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1E00-5E10-499C-B337-65F05960BA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D788-D620-4DDF-A78F-7CE4C6BB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BEF-DDD6-47BE-9054-A73B359107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55E-3ACB-4676-8E26-58C227C28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BB6-462F-4D56-9BCA-11745A1C30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8BA-DE1B-4281-ABC2-6BD333424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BCD-A515-48EC-90C5-4FBC0F3F39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D0C-EB38-427F-A890-CCBEB9BA2F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66-21DD-4E6D-B9E7-3FA5720D9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07C5-213F-417D-A21A-CD92EDDDD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F23-1867-4DF7-ABA4-7BDEFE436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5F5-3DCC-43DC-8C45-04EA70547A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41F-2D9D-403D-B9AF-8979337B9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46F-5705-42A3-9D3B-231B99AFA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5C5-1575-41E6-A1FD-8F0F37BF6A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B2EB-91A4-4258-BFBE-599D1832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DA9E-408B-48F2-950D-F611099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F2F4-1E5D-4C39-9053-D44AEC3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55DA-4398-490F-A2B2-03902FB1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1BC-918B-4173-B7A7-163214C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C306-501D-493D-B8F0-3119B0BA07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177-4C1D-4E60-B6A3-0A245837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131-E797-469A-9748-5FC6B911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4FA-4E62-4A79-B7C4-9C02A5E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34D5-3BA7-4D39-9761-716EB35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BA5E-0434-4925-9F72-2B182A2E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3EF-0EE5-4836-A8CE-BF3CF092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95A-2802-4D78-AAB0-FC8043B9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AAFA-3BDE-4818-80EC-84FE9F15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CD79-4275-419E-9B69-695399BE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4B74-2C6E-4226-97AC-E079CB5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72D8-78FC-4D5D-A0E0-A9353EFD41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43D7-AD27-4B70-AE41-65866E5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2E2C-1917-42C6-95F8-C0DA919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82E6-6E27-492C-B973-18755B8A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0A07-A017-47C5-8973-95661FB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60F2-56F9-4858-BC2E-0753A03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41AF-0813-483A-BA7F-0F7F084B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A315-D681-4AE1-8724-243A7E1B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5ABB-9829-4A98-A7FA-473EB82A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6765-F7B1-4092-8145-D501CDFA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9798-03FF-4EC2-9C43-2CAAB405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7F47-BCB3-4B14-8488-A4EC9272C0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3EAF-F030-46A4-8E74-3FFD9C6D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9D09-1884-4234-BD1B-181FEE3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0DA6-9C36-4816-B61B-34F2CC5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DB68-580C-468C-90F8-C1691F3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7A34-4C0E-475A-B9D9-5E9695FD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D9C5-49C3-47CB-A052-9EB6FD2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B53A-74A7-4E6D-B92C-F12B223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BE93-B9D7-4952-AE53-21FF79E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E540-4840-454A-9F75-24512322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F73F-D820-488D-9254-94047558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3D00-BDD9-47E5-A9DF-B9C32C35C4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768A-DCDF-4534-87AA-E12FB367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D7A6-44E2-4CD3-8EA4-C2CE88AD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A994-CAD2-43EA-BABF-C9FDC74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4465-FFE5-40D3-B8A0-12FB187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3BE9-E005-4F89-ACEB-26B7BFC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8D95-A5E6-4B34-BC16-63F44095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60EFE-FE3A-465D-923B-3502D74B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2A0F-8024-43BE-A238-533B0A0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5CCD-E628-4004-9C15-A751E0F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E943-52E6-4B7E-BA48-E95CEE8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00B4-3B86-4677-93BC-11B22E664B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4122-A5A8-43B2-A2D7-463A4F4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651D-5D4B-40E5-A5F8-DD5A9BB4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86F6-12D1-41BC-8D3C-CBA1A58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5CE8-DF6A-46E4-A5E8-A6E1875E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9EA4-5107-4B00-89C9-FC054A52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A130-559F-4A67-8087-7063584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469C-527C-41F0-9D6C-2DF2F98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4EC6-D575-43E5-9CFA-FE9A669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E5C7-17E0-41D8-BB23-41267CC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D748-835F-4C2A-BA0B-82009B3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42ED-CE22-4CB1-BEE9-00B254C5B1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C3612-1072-45CD-B055-C641586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61DD-E57E-42D7-9434-0E6445B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30AB-4410-476A-8AEA-C2B4D42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BA25-F7DD-4BF9-A04A-FA462DC2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0E7C-71CD-49B8-8D54-5D4048C0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44F3C-5F45-4DDF-A4A1-AD684970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6328-F8BE-43CA-B25B-CAE12F06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3A67-9E4F-4F57-9020-92CED3DF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F381-ACA5-418B-9526-693E1C7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1B2A-3604-4541-B352-94622EE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06B8-9350-4827-BD9E-2395E91F94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2AD2-B1D1-4E19-BCFC-5EC4B33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CB24-D0F9-4FD1-8432-A23B155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1091-5786-4F86-A49B-A225751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3811-6670-4488-81A3-A86B1B8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CF71-E0EC-4609-BBB6-22EF379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9441-6AF5-47AD-A567-A836A28F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2AE52-31FB-4D56-9A5B-7D161A97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2FF9F-0991-44D1-AFBA-C046FF1C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014F1-B8D7-49B3-8727-CCC890FA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7741-665B-4DC4-8064-D8F049B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658-F1E6-4181-88DB-68F2F96D6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9E06-30F4-4E8F-B008-79B23E766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8A1-1901-40CC-99F4-01AD571D7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395-9898-484C-84B6-C7E88B027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441D-CF1F-4575-AEF7-497D02A09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0937-D6A2-4109-9552-AE2E71DE9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B66-910E-45AD-B38C-EFCD5CC01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5D54-6A4F-4878-989D-1294446E0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829A-2665-4CAD-AC27-0013FFDEB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B3A-9415-4510-B28C-EE425D1BE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971640" y="2341800"/>
            <a:ext cx="67690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619280" y="692280"/>
            <a:ext cx="603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Нас в любое время года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Учит мудрая природа: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Птицы учат п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2" descr="http://overberginteriors.co.za/web/wp-content/uploads/2013/01/birds.jpg"/>
          <p:cNvPicPr/>
          <p:nvPr/>
        </p:nvPicPr>
        <p:blipFill>
          <a:blip r:embed="rId2"/>
          <a:stretch/>
        </p:blipFill>
        <p:spPr>
          <a:xfrm>
            <a:off x="0" y="1628640"/>
            <a:ext cx="8720280" cy="442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900000" y="620640"/>
            <a:ext cx="61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Century Schoolbook"/>
              </a:rPr>
              <a:t>Паучок терп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" descr="http://rlv.zcache.com/creepy_crawly_spider_photosculpture-r2f08f09fc2fe4000a547d6087bfb47ce_x7sai_8byvr_512.jpg"/>
          <p:cNvPicPr/>
          <p:nvPr/>
        </p:nvPicPr>
        <p:blipFill>
          <a:blip r:embed="rId2"/>
          <a:stretch/>
        </p:blipFill>
        <p:spPr>
          <a:xfrm>
            <a:off x="826920" y="132084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http://www.clipartkid.com/images/476/miss-muffet-s-spider-by-serioustux-spider-from-poster-promoting-DgeUaX-clipart.png"/>
          <p:cNvPicPr/>
          <p:nvPr/>
        </p:nvPicPr>
        <p:blipFill>
          <a:blip r:embed="rId3"/>
          <a:stretch/>
        </p:blipFill>
        <p:spPr>
          <a:xfrm>
            <a:off x="6588000" y="0"/>
            <a:ext cx="2305080" cy="239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755640" y="40464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Пчелы в поле и в саду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Обучают нас труду.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И к тому же в их труде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Все по справедлив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2" descr="http://cur.glitter-graphics.net/pub/3515/3515891rfurk21sbp.gif"/>
          <p:cNvPicPr/>
          <p:nvPr/>
        </p:nvPicPr>
        <p:blipFill>
          <a:blip r:embed="rId2"/>
          <a:stretch/>
        </p:blipFill>
        <p:spPr>
          <a:xfrm>
            <a:off x="324000" y="2708280"/>
            <a:ext cx="3693960" cy="3529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photo.allindonews.com/picture/cliparts.co/cliparts/kcM/beE/kcMbeEXXi.png"/>
          <p:cNvPicPr/>
          <p:nvPr/>
        </p:nvPicPr>
        <p:blipFill>
          <a:blip r:embed="rId3"/>
          <a:stretch/>
        </p:blipFill>
        <p:spPr>
          <a:xfrm>
            <a:off x="4932360" y="2060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619280" y="549360"/>
            <a:ext cx="61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Отражение в воде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Учит нас правдив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http://2.bp.blogspot.com/-xK3_-hriG9A/TdNeVPuTX5I/AAAAAAAAAAw/wkwK8RFdB2w/s1600/kbjy3.jpg"/>
          <p:cNvPicPr/>
          <p:nvPr/>
        </p:nvPicPr>
        <p:blipFill>
          <a:blip r:embed="rId2"/>
          <a:stretch/>
        </p:blipFill>
        <p:spPr>
          <a:xfrm>
            <a:off x="1852560" y="1719360"/>
            <a:ext cx="4567320" cy="63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154764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50"/>
                </a:solidFill>
                <a:latin typeface="Century Schoolbook"/>
              </a:rPr>
              <a:t>Учит снег нас чистот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https://s1.1zoom.ru/big3/457/360461-admin.jpg"/>
          <p:cNvPicPr/>
          <p:nvPr/>
        </p:nvPicPr>
        <p:blipFill>
          <a:blip r:embed="rId2"/>
          <a:stretch/>
        </p:blipFill>
        <p:spPr>
          <a:xfrm>
            <a:off x="334800" y="1249200"/>
            <a:ext cx="7504200" cy="38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395280" y="6922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Солнце учит доброте: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Каждый день, зимой и летом,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Дарит нас теплом и свет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И взамен ни у кого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Не попросит ничего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2" descr="http://fotovsem.com/wp-content/uploads/2015/09/%D0%9E%D1%81%D0%B5%D0%BD%D1%8C-1920%D1%851080_066.jpg"/>
          <p:cNvPicPr/>
          <p:nvPr/>
        </p:nvPicPr>
        <p:blipFill>
          <a:blip r:embed="rId2"/>
          <a:stretch/>
        </p:blipFill>
        <p:spPr>
          <a:xfrm>
            <a:off x="268200" y="3017880"/>
            <a:ext cx="6120000" cy="477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http://www.clipartbest.com/cliparts/aiq/og6/aiqog6jkT.jpg"/>
          <p:cNvPicPr/>
          <p:nvPr/>
        </p:nvPicPr>
        <p:blipFill>
          <a:blip r:embed="rId3"/>
          <a:stretch/>
        </p:blipFill>
        <p:spPr>
          <a:xfrm>
            <a:off x="6516720" y="476280"/>
            <a:ext cx="2627280" cy="26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539640" y="33660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У природы круглый год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Обучаться нужно.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Нас деревья всех пород,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Весь большой лесной народ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entury Schoolbook"/>
              </a:rPr>
              <a:t>Учат крепкой дружб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2" descr="http://zoozel.ru/gallery/images/1155771_klipart-derevya.jpg"/>
          <p:cNvPicPr/>
          <p:nvPr/>
        </p:nvPicPr>
        <p:blipFill>
          <a:blip r:embed="rId2"/>
          <a:stretch/>
        </p:blipFill>
        <p:spPr>
          <a:xfrm>
            <a:off x="0" y="5205240"/>
            <a:ext cx="6527880" cy="1652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img-fotki.yandex.ru/get/9257/20573769.66/0_96b05_e402583f_XL.png"/>
          <p:cNvPicPr/>
          <p:nvPr/>
        </p:nvPicPr>
        <p:blipFill>
          <a:blip r:embed="rId3"/>
          <a:stretch/>
        </p:blipFill>
        <p:spPr>
          <a:xfrm>
            <a:off x="7020000" y="1844640"/>
            <a:ext cx="1792080" cy="1528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img1.liveinternet.ru/images/attach/b/4/113/801/113801499_large_11.png"/>
          <p:cNvPicPr/>
          <p:nvPr/>
        </p:nvPicPr>
        <p:blipFill>
          <a:blip r:embed="rId4"/>
          <a:stretch/>
        </p:blipFill>
        <p:spPr>
          <a:xfrm>
            <a:off x="395280" y="5788080"/>
            <a:ext cx="1512720" cy="1069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https://im0-tub-ru.yandex.net/i?id=cdec228c68cb27cc024c8c70db7b418a&amp;n=33&amp;h=215&amp;w=239"/>
          <p:cNvPicPr/>
          <p:nvPr/>
        </p:nvPicPr>
        <p:blipFill>
          <a:blip r:embed="rId5"/>
          <a:stretch/>
        </p:blipFill>
        <p:spPr>
          <a:xfrm rot="3129000">
            <a:off x="579960" y="3898080"/>
            <a:ext cx="1141560" cy="102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332000" y="260280"/>
            <a:ext cx="4572000" cy="61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Нас в любое время года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Учит мудрая природа: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Птицы учат пени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Паучок терпению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Пчелы в поле и в саду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Обучают нас труду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И к тому же в их труде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Все по справедливости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Отражение в воде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Учит нас правдивости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Учит снег нас чистоте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Солнце учит доброте: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Каждый день, зимой и летом,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Дарит нас теплом и светом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И взамен ни у кого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Не попросит ничего!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У природы круглый год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Обучаться нужно.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Нас деревья всех пород,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Весь большой лесной народ</a:t>
            </a: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entury Schoolbook"/>
              </a:rPr>
              <a:t>Учат крепкой дружбе.</a:t>
            </a:r>
            <a:br>
              <a:rPr sz="1800"/>
            </a:br>
            <a:r>
              <a:rPr b="1" i="1" lang="en-US" sz="1800" spc="-1" strike="noStrike">
                <a:solidFill>
                  <a:srgbClr val="00b050"/>
                </a:solidFill>
                <a:latin typeface="Century Schoolbook"/>
              </a:rPr>
              <a:t>(В. Орло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9:49:01Z</dcterms:created>
  <dc:creator>Елена</dc:creator>
  <dc:description/>
  <dc:language>en-US</dc:language>
  <cp:lastModifiedBy>Microsoft </cp:lastModifiedBy>
  <dcterms:modified xsi:type="dcterms:W3CDTF">2017-05-11T15:40:00Z</dcterms:modified>
  <cp:revision>9</cp:revision>
  <dc:subject/>
  <dc:title>Слайд 1</dc:title>
</cp:coreProperties>
</file>